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34.png" ContentType="image/png"/>
  <Override PartName="/ppt/media/image43.wmf" ContentType="image/x-wmf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6D3-7618-4973-ABCB-FCD3B974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D06-0F0A-4762-9BC9-9F8B860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B92-8B3A-454B-92EF-FB9EA4AE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A18-EFAD-437F-9B2E-4F6FC1B6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5F1-95F8-4CF6-BCE7-636D8C93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7152-4D4B-49C3-9DE5-4114B562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7920-6778-480E-A4D3-5F9C3738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702-5C58-45D0-A363-FF9180B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98E-4665-4FB9-B4B1-0FB6B21A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84B9-8879-43AC-BB2E-4D7521D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243-38C1-414F-89CB-4F0510E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BB2-3509-49AD-A6BD-9C7DF1E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AC36-3DA9-46F1-89D3-D5E35C6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83D-6480-43CD-98E8-302FDA0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3984-6374-4BDE-B58A-AF1482A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750-D9D1-45B8-AD5C-47E2FEC3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DE0-3B2F-4D31-A02A-856C7C3F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57B-29D9-442D-B5AE-53FD61E3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652-1E4B-4385-8613-2DDBF5D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2A9-35C9-468E-8615-FD6ABB9A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2EF-5D81-47C9-93C7-F88B34C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A0C-B6C9-44C3-9A0E-ED7322F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09F-4935-4066-B233-15505E7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5DD-CB72-4942-815E-A0BAECA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A9B-207E-4A0D-A77C-CBDD37A9B4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A9A-E79C-4949-828B-65CA539630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кция  2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пределители второго и третьего поря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4440"/>
            <a:ext cx="6629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Векторное произведение двух 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Смешанное произведение трех ве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не меняется при замене в нем всех строк соответствующи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номе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толбц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равен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содержит нулевую строку или нулевой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 равен 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одержит две  одинаковые строки  или  два  одинаковых  столб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определит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334520" y="275076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разложение по элементам первой стро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5148360" y="1484280"/>
          <a:ext cx="14396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84280"/>
                    <a:ext cx="14396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611280" y="3357720"/>
          <a:ext cx="748800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357720"/>
                    <a:ext cx="7488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684360" y="5013360"/>
          <a:ext cx="755964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13360"/>
                    <a:ext cx="7559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0"/>
          <p:cNvGraphicFramePr/>
          <p:nvPr/>
        </p:nvGraphicFramePr>
        <p:xfrm>
          <a:off x="684360" y="5516640"/>
          <a:ext cx="7559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5516640"/>
                    <a:ext cx="7559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присоединение двух дополнительных строк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4360" y="2492280"/>
          <a:ext cx="799308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99308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4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числить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348000" y="2009880"/>
          <a:ext cx="1693800" cy="14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09880"/>
                    <a:ext cx="16938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6"/>
          <p:cNvSpPr/>
          <p:nvPr/>
        </p:nvSpPr>
        <p:spPr>
          <a:xfrm>
            <a:off x="755640" y="3564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правило треугольников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826920" y="3860640"/>
          <a:ext cx="7272360" cy="14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860640"/>
                    <a:ext cx="727236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1187280" y="5373720"/>
          <a:ext cx="72010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373720"/>
                    <a:ext cx="720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142560"/>
            <a:ext cx="8015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анарные ве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9680" y="14288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ектора                   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анарны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и лежат на одной плоскости или на параллельных 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тивном случае  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мпланарны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тя бы оди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екторов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евой, то эти  ве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072040" y="135576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39760" y="3571920"/>
            <a:ext cx="3219480" cy="225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5429160" y="25718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929280" y="3857760"/>
                <a:ext cx="1000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ентация тройки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64304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152e"/>
                </a:solidFill>
                <a:latin typeface="Arial"/>
              </a:rPr>
              <a:t>Определение.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Три некомпланарных векто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бразуют правую тройку (левую тройку) или положительно ориентированным (отрицательно ориентированным), если с конца третьего вектор 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кратчайший поворот от первого вектора          ко  второму вектору        виден против часовой стрелки   ( по часовой стрелк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риентация тройки векто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не меняется при цикличес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перестановке этих векторов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785880" y="20001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7"/>
          <p:cNvGraphicFramePr/>
          <p:nvPr/>
        </p:nvGraphicFramePr>
        <p:xfrm>
          <a:off x="714240" y="3214800"/>
          <a:ext cx="30024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3214800"/>
                    <a:ext cx="3002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6786720" y="3143160"/>
          <a:ext cx="2314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143160"/>
                    <a:ext cx="23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1"/>
          <p:cNvGraphicFramePr/>
          <p:nvPr/>
        </p:nvGraphicFramePr>
        <p:xfrm>
          <a:off x="3429000" y="3571920"/>
          <a:ext cx="29988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71920"/>
                    <a:ext cx="29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2" descr="C:\Users\MANYA\Desktop\фото.JPG"/>
          <p:cNvPicPr/>
          <p:nvPr/>
        </p:nvPicPr>
        <p:blipFill>
          <a:blip r:embed="rId7"/>
          <a:stretch/>
        </p:blipFill>
        <p:spPr>
          <a:xfrm>
            <a:off x="4687920" y="4121280"/>
            <a:ext cx="1908000" cy="176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MANYA\Desktop\фото (1).JPG"/>
          <p:cNvPicPr/>
          <p:nvPr/>
        </p:nvPicPr>
        <p:blipFill>
          <a:blip r:embed="rId8"/>
          <a:stretch/>
        </p:blipFill>
        <p:spPr>
          <a:xfrm>
            <a:off x="6626160" y="4127400"/>
            <a:ext cx="18478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Векторным произведение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 вектор      называется вектор      удовлетворя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угол между векторов        и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       ортогонален векторам      и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образуют правую тро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вектора       на вектор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бозначается               или             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8197920" y="1571760"/>
          <a:ext cx="25236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7920" y="157176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"/>
          <p:cNvGraphicFramePr/>
          <p:nvPr/>
        </p:nvGraphicFramePr>
        <p:xfrm>
          <a:off x="2214720" y="2071800"/>
          <a:ext cx="3236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2071800"/>
                    <a:ext cx="3236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5357880" y="2000160"/>
          <a:ext cx="32364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7880" y="2000160"/>
                    <a:ext cx="323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8"/>
          <p:cNvGraphicFramePr/>
          <p:nvPr/>
        </p:nvGraphicFramePr>
        <p:xfrm>
          <a:off x="3340080" y="2857680"/>
          <a:ext cx="37476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0080" y="2857680"/>
                    <a:ext cx="3747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"/>
          <p:cNvGraphicFramePr/>
          <p:nvPr/>
        </p:nvGraphicFramePr>
        <p:xfrm>
          <a:off x="4857840" y="2786040"/>
          <a:ext cx="219060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2786040"/>
                    <a:ext cx="2190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1785960" y="3429000"/>
          <a:ext cx="58752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342900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5572080" y="3357720"/>
          <a:ext cx="252360" cy="42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2080" y="335772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72160" y="3357720"/>
          <a:ext cx="32400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2160" y="3357720"/>
                    <a:ext cx="3240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2643120" y="41432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Object 16"/>
          <p:cNvGraphicFramePr/>
          <p:nvPr/>
        </p:nvGraphicFramePr>
        <p:xfrm>
          <a:off x="2286000" y="3714840"/>
          <a:ext cx="37476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3714840"/>
                    <a:ext cx="374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6000840" y="3786120"/>
          <a:ext cx="252360" cy="42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00840" y="378612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6715080" y="3786120"/>
          <a:ext cx="32400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15080" y="3786120"/>
                    <a:ext cx="324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5715000" y="4643280"/>
          <a:ext cx="2523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64328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7643880" y="4643280"/>
          <a:ext cx="32364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3880" y="4643280"/>
                    <a:ext cx="3236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2944800" y="5072040"/>
          <a:ext cx="722160" cy="477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44800" y="507204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4"/>
          <p:cNvGraphicFramePr/>
          <p:nvPr/>
        </p:nvGraphicFramePr>
        <p:xfrm>
          <a:off x="4653000" y="5081760"/>
          <a:ext cx="84780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9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53000" y="5081760"/>
                    <a:ext cx="847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1"/>
          <p:cNvGraphicFramePr/>
          <p:nvPr/>
        </p:nvGraphicFramePr>
        <p:xfrm>
          <a:off x="5724360" y="3510000"/>
          <a:ext cx="252720" cy="42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724360" y="3510000"/>
                    <a:ext cx="2527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15200" cy="40006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graphicFrame>
        <p:nvGraphicFramePr>
          <p:cNvPr id="264" name="Object 4"/>
          <p:cNvGraphicFramePr/>
          <p:nvPr/>
        </p:nvGraphicFramePr>
        <p:xfrm>
          <a:off x="4214880" y="5214960"/>
          <a:ext cx="3800520" cy="9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5214960"/>
                    <a:ext cx="38005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5"/>
          <p:cNvGraphicFramePr/>
          <p:nvPr/>
        </p:nvGraphicFramePr>
        <p:xfrm>
          <a:off x="1785960" y="5214960"/>
          <a:ext cx="142884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5960" y="5214960"/>
                    <a:ext cx="14288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2643120" y="1785960"/>
          <a:ext cx="8319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1785960"/>
                    <a:ext cx="8319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         равно нулю только и только тогда, когда векторы      коллине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    числено равна  площади параллелограмма, сторонами которого служат векторы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3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антикоммутативно, 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6143760" y="1571760"/>
          <a:ext cx="7221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157176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4"/>
          <p:cNvGraphicFramePr/>
          <p:nvPr/>
        </p:nvGraphicFramePr>
        <p:xfrm>
          <a:off x="7286760" y="1928880"/>
          <a:ext cx="10699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192888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4643280" y="2714760"/>
          <a:ext cx="7225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14760"/>
                    <a:ext cx="722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3429000" y="3500280"/>
          <a:ext cx="106992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00280"/>
                    <a:ext cx="1069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3429000" y="4005360"/>
          <a:ext cx="119556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4005360"/>
                    <a:ext cx="1195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"/>
          <p:cNvGraphicFramePr/>
          <p:nvPr/>
        </p:nvGraphicFramePr>
        <p:xfrm>
          <a:off x="3179880" y="5357880"/>
          <a:ext cx="16938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9880" y="5357880"/>
                    <a:ext cx="1693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второго поряд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второ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268360" y="2565360"/>
          <a:ext cx="1727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1727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2268360" y="4437000"/>
          <a:ext cx="446436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437000"/>
                    <a:ext cx="44643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я произвольных векторов                  и произвольного       выполняется неравенств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6643800" y="1557360"/>
          <a:ext cx="106992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55736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3286080" y="2000160"/>
          <a:ext cx="2746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000160"/>
                    <a:ext cx="274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5"/>
          <p:cNvGraphicFramePr/>
          <p:nvPr/>
        </p:nvGraphicFramePr>
        <p:xfrm>
          <a:off x="2333520" y="2446200"/>
          <a:ext cx="23227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3520" y="2446200"/>
                    <a:ext cx="2322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ажение векторного произведение через прямоугольны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428760" y="1428840"/>
            <a:ext cx="4929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 - прямоугольная 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координат,                       орты координатных осей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000160" y="1857240"/>
          <a:ext cx="1020960" cy="4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1857240"/>
                    <a:ext cx="1020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428760" y="2637000"/>
          <a:ext cx="4730760" cy="29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2637000"/>
                    <a:ext cx="47307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Объект 3"/>
              <p:cNvSpPr txBox="1"/>
              <p:nvPr/>
            </p:nvSpPr>
            <p:spPr>
              <a:xfrm>
                <a:off x="1619280" y="148428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 txBox="1"/>
          <p:nvPr/>
        </p:nvSpPr>
        <p:spPr>
          <a:xfrm>
            <a:off x="610920" y="1557000"/>
            <a:ext cx="7924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             -произвольные векторы пространства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Число              называется смешанным произведением векторов              и обозначается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ве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равно нулю тогда и только тогда, когда эти векторы компланар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трех некомпланарных  векторов равно объему параллелепипеда, построенного на этих векторах, взятому со знаком «+», если эти векторы образуют правую тройку, и со знаком «-», если они образуют левую трой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Объект 13"/>
              <p:cNvSpPr txBox="1"/>
              <p:nvPr/>
            </p:nvSpPr>
            <p:spPr>
              <a:xfrm>
                <a:off x="3949560" y="1920960"/>
                <a:ext cx="9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03" name="Picture 12" descr=""/>
          <p:cNvPicPr/>
          <p:nvPr/>
        </p:nvPicPr>
        <p:blipFill>
          <a:blip r:embed="rId1"/>
          <a:stretch/>
        </p:blipFill>
        <p:spPr>
          <a:xfrm>
            <a:off x="4435560" y="2352600"/>
            <a:ext cx="75708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Объект 14"/>
              <p:cNvSpPr txBox="1"/>
              <p:nvPr/>
            </p:nvSpPr>
            <p:spPr>
              <a:xfrm>
                <a:off x="1679400" y="2708280"/>
                <a:ext cx="505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5"/>
              <p:cNvSpPr txBox="1"/>
              <p:nvPr/>
            </p:nvSpPr>
            <p:spPr>
              <a:xfrm>
                <a:off x="7101000" y="2997360"/>
                <a:ext cx="1000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смешанного произведения через прямоугольные координ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 </a:t>
            </a:r>
            <a:r>
              <a:rPr b="0" lang="en-US" sz="22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–прямоугольная система координат в пространстве, а                 орты координатных осей эт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Тогд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Следств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ек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компланарны только и только тогда, ког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Объект 3"/>
          <p:cNvGraphicFramePr/>
          <p:nvPr/>
        </p:nvGraphicFramePr>
        <p:xfrm>
          <a:off x="2987640" y="1916280"/>
          <a:ext cx="10209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10209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3132000" y="2637000"/>
                <a:ext cx="4599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8"/>
              <p:cNvSpPr txBox="1"/>
              <p:nvPr/>
            </p:nvSpPr>
            <p:spPr>
              <a:xfrm>
                <a:off x="1763640" y="3141720"/>
                <a:ext cx="22669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9"/>
              <p:cNvSpPr txBox="1"/>
              <p:nvPr/>
            </p:nvSpPr>
            <p:spPr>
              <a:xfrm>
                <a:off x="3708360" y="4221000"/>
                <a:ext cx="45990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2124000" y="5084640"/>
                <a:ext cx="26766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528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Пример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Найти объем пирамиды с верши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Решен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Данная пирамида построена на вектор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ычислим смешанное произведение этих векторов по формул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                                           </a:t>
            </a: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Ответ : 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4"/>
              <p:cNvSpPr txBox="1"/>
              <p:nvPr/>
            </p:nvSpPr>
            <p:spPr>
              <a:xfrm>
                <a:off x="1644480" y="2076480"/>
                <a:ext cx="4837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3,0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5"/>
              <p:cNvSpPr txBox="1"/>
              <p:nvPr/>
            </p:nvSpPr>
            <p:spPr>
              <a:xfrm>
                <a:off x="1403280" y="3068640"/>
                <a:ext cx="609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6"/>
              <p:cNvSpPr txBox="1"/>
              <p:nvPr/>
            </p:nvSpPr>
            <p:spPr>
              <a:xfrm>
                <a:off x="2322360" y="4005360"/>
                <a:ext cx="56343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8"/>
              <p:cNvSpPr txBox="1"/>
              <p:nvPr/>
            </p:nvSpPr>
            <p:spPr>
              <a:xfrm>
                <a:off x="1116000" y="5229360"/>
                <a:ext cx="2611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2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059280" y="2492280"/>
          <a:ext cx="19443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92280"/>
                    <a:ext cx="19443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468360" y="4221000"/>
          <a:ext cx="77756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22100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З а м е ч а н и е 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может быть вычислен не только по формул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зываемой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ем  определителя  по  элементам  первой  строк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Для вычисления определителя третьего порядка можно воспользоваться правилом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 определителя  по   элементам    л ю б о й    строки   (столбца)   матрицы   А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этом элементы выбранной строки (столбца) берут со знаками, указанными в следующей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есть знак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ставят у тех элементов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для которых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четное, 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–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5796000" y="3357720"/>
          <a:ext cx="1487520" cy="15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357720"/>
                    <a:ext cx="1487520" cy="15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в для разлож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ую стро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ля, получим формулу </a:t>
            </a: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определителя третьего порядка по элементам втор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755640" y="3716280"/>
          <a:ext cx="7921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7921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числения определителя третьего порядка можно воспользоваться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авилом  треуг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826920" y="2276640"/>
          <a:ext cx="64090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4090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2411280" y="4076640"/>
          <a:ext cx="482472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76640"/>
                    <a:ext cx="48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11"/>
          <p:cNvSpPr/>
          <p:nvPr/>
        </p:nvSpPr>
        <p:spPr>
          <a:xfrm>
            <a:off x="2771640" y="2565360"/>
            <a:ext cx="1152720" cy="122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932360" y="2565360"/>
            <a:ext cx="57636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4427640" y="256536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4427280" y="314172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6012000" y="321300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6516360" y="256536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011640" y="25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V="1">
            <a:off x="2843280" y="4365720"/>
            <a:ext cx="1008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4427640" y="4365720"/>
            <a:ext cx="504720" cy="577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932360" y="436572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 flipV="1">
            <a:off x="4356000" y="4941720"/>
            <a:ext cx="115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6516720" y="4941720"/>
            <a:ext cx="57636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6011640" y="43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 flipV="1">
            <a:off x="6012000" y="436572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1252440" y="5790240"/>
            <a:ext cx="59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выделенные элементы нужно перемнож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получаемых перемножением элементов, попавших на параллельные линии матрицы, полученной из исходной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иписыванием к ней справа дополнительно первых двух столбцов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187280" y="2997360"/>
          <a:ext cx="676944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97360"/>
                    <a:ext cx="676944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6"/>
          <p:cNvSpPr/>
          <p:nvPr/>
        </p:nvSpPr>
        <p:spPr>
          <a:xfrm>
            <a:off x="298764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49236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067280" y="378936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565164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6227640" y="378900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73272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 получаемых перемножением элементов, попавших на  параллельные линии матрицы, полученной из исходной матрицы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м к ней снизу дополнительно первых  двух строк матриц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971640" y="3429000"/>
          <a:ext cx="165888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16588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2700360" y="3141720"/>
          <a:ext cx="187488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141720"/>
                    <a:ext cx="18748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065560" y="3141720"/>
          <a:ext cx="1898640" cy="22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141720"/>
                    <a:ext cx="1898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9"/>
          <p:cNvSpPr/>
          <p:nvPr/>
        </p:nvSpPr>
        <p:spPr>
          <a:xfrm>
            <a:off x="3203640" y="3284640"/>
            <a:ext cx="863640" cy="936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203640" y="378936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203640" y="422100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5651640" y="429228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5651640" y="378900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5651640" y="335736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вадратной матрице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рядка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где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ставится в соответствие число, называемое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определителем матриц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обозначаемое 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вычисляемое по прави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971640" y="2924280"/>
          <a:ext cx="13683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1368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971640" y="3500280"/>
          <a:ext cx="388764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38876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9"/>
          <p:cNvGraphicFramePr/>
          <p:nvPr/>
        </p:nvGraphicFramePr>
        <p:xfrm>
          <a:off x="971640" y="4581360"/>
          <a:ext cx="7704000" cy="13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7704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2"/>
          <p:cNvSpPr/>
          <p:nvPr/>
        </p:nvSpPr>
        <p:spPr>
          <a:xfrm>
            <a:off x="971640" y="58759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ак дал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09-11T09:09:04Z</dcterms:modified>
  <cp:revision>75</cp:revision>
  <dc:subject/>
  <dc:title>Определители второго и третьего порядка.</dc:title>
</cp:coreProperties>
</file>